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FC7-A33D-4488-9104-F6806F4F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D59-7171-4DCF-9107-8EF6A93F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866-7AA8-4934-BF14-EC42023D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D21-72FA-4771-9F92-EB36950C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346-E6AC-471C-A45C-5D16F1EF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A3C-35A5-4B62-82E2-62FDA751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925-179D-4296-AB9C-DDB3CB83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6B8-8E11-4E01-9251-764E908C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D78-4C19-41EC-8758-D72B1AE3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48C-CF07-4D9D-8B8D-C2DFA40C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1C5-E4F8-4536-984C-F567240E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991-4182-4565-88DD-BF61518F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E1E5-ED57-42F3-B61A-907D3AE3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law.ou.edu/hist/flags/stflagalmo.shtml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nchantedlearning.com/usa/statesbw/arizona.shtml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www.enchantedlearning.com/usa/states/arizona/" TargetMode="External"/><Relationship Id="rId5" Type="http://schemas.openxmlformats.org/officeDocument/2006/relationships/hyperlink" Target="http://www.amazon.com/Susan-Hanover-Designs-Turquoise-Bracelet/dp/B004R1PRLK%3FSubscriptionId%3D083MT9Z7SZY8WMM3T082%26tag%3Djewlerymall%26linkCode%3Dsp1%26camp%3D2025%26creative%3D165953%26creativeASIN%3DB004R1PRLK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jewelrymall.com/stategems.html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439800">
            <a:off x="609480" y="1599840"/>
            <a:ext cx="7661520" cy="24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e09e56"/>
                    </a:gs>
                    <a:gs pos="100000">
                      <a:srgbClr val="e62100"/>
                    </a:gs>
                  </a:gsLst>
                  <a:lin ang="5562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izon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e09e56"/>
                  </a:gs>
                  <a:gs pos="100000">
                    <a:srgbClr val="e62100"/>
                  </a:gs>
                </a:gsLst>
                <a:lin ang="5562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5257800"/>
            <a:ext cx="3124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yna H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6095880"/>
            <a:ext cx="4495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izona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20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a8ec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Name: Ari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: Phoe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: 5,130,6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ed Union: February 14, 1912 (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to: Ditat Deus (god enri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: Grand Canyon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: Saguaro Cactus Blos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: Cactus W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g: Arizo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behind name: Spanish interpretation of “arizuma” an aztec indian word meaning “silver-bearing.” Also based on pima indianwood “arizonac” for “little spring pla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ing facts: The gemstone for Arizona is turquoise, mineral is Fire Agate, rock or stone, is petrified wood, and the state tree is Palo Ve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00520" y="0"/>
            <a:ext cx="4443480" cy="340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304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bcf"/>
            </a:gs>
            <a:gs pos="100000">
              <a:srgbClr val="bdb9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267080" cy="220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45720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Flag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izona State Fla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2-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w.ou.edu/hist/flags/stflagalmo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76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flag of Ari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10080" y="1143000"/>
            <a:ext cx="3009960" cy="3567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10080" y="426708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4724280"/>
            <a:ext cx="3200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ap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aded Relief 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-22-12, http://fermi.jhuapl.edu/states/states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3808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haded relief map of Ari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143000"/>
            <a:ext cx="301968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51055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izon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1-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nchantedlearning.com/usa/states/arizon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icture of Ite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990720"/>
            <a:ext cx="180504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28954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26668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 Mal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rqu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-22-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jewelrymall.com/stategems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rizona’s 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33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map of Ari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56cb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All images Copyright © 1997 - 2000 WriteLine. All Rights Reserved. Lake Powell"/>
          <p:cNvPicPr/>
          <p:nvPr/>
        </p:nvPicPr>
        <p:blipFill>
          <a:blip r:embed="rId1"/>
          <a:stretch/>
        </p:blipFill>
        <p:spPr>
          <a:xfrm>
            <a:off x="228600" y="762120"/>
            <a:ext cx="792468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441972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ke Powell, Arizo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-22-12, http://www.postcards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49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Lake Powell in Ariz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1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All images Copyright © 1997 - 2000 WriteLine. All Rights Reserved. Grand Canyon"/>
          <p:cNvPicPr/>
          <p:nvPr/>
        </p:nvPicPr>
        <p:blipFill>
          <a:blip r:embed="rId1"/>
          <a:stretch/>
        </p:blipFill>
        <p:spPr>
          <a:xfrm>
            <a:off x="380880" y="685800"/>
            <a:ext cx="7772400" cy="3759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449568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nd Canyon National P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-22-12, http://www.postcardsfrom.com/t1/9905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049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Grand National Park in Ari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42Z</dcterms:created>
  <dc:creator>install</dc:creator>
  <dc:description/>
  <dc:language>en-US</dc:language>
  <cp:lastModifiedBy>install</cp:lastModifiedBy>
  <dcterms:modified xsi:type="dcterms:W3CDTF">2012-04-16T13:04:57Z</dcterms:modified>
  <cp:revision>12</cp:revision>
  <dc:subject/>
  <dc:title>Slide 1</dc:title>
</cp:coreProperties>
</file>